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.bin" ContentType="application/vnd.openxmlformats-officedocument.oleObject"/>
  <Override PartName="/ppt/media/image19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image10.wmf" ContentType="image/x-wmf"/>
  <Override PartName="/ppt/media/image4.wmf" ContentType="image/x-wmf"/>
  <Override PartName="/ppt/media/PROJCTOR.WAV" ContentType="audio/x-wav"/>
  <Override PartName="/ppt/media/image22.wmf" ContentType="image/x-wmf"/>
  <Override PartName="/ppt/media/image8.wmf" ContentType="image/x-wmf"/>
  <Override PartName="/ppt/media/caralarmon.wav" ContentType="audio/x-wav"/>
  <Override PartName="/ppt/media/image9.wmf" ContentType="image/x-wmf"/>
  <Override PartName="/ppt/media/peopleooo.wav" ContentType="audio/x-wav"/>
  <Override PartName="/ppt/media/LASER.WAV" ContentType="audio/x-wav"/>
  <Override PartName="/ppt/media/image14.wmf" ContentType="image/x-wmf"/>
  <Override PartName="/ppt/media/image21.wmf" ContentType="image/x-wmf"/>
  <Override PartName="/ppt/media/caralarmoff.wav" ContentType="audio/x-wav"/>
  <Override PartName="/ppt/media/image7.wmf" ContentType="image/x-wmf"/>
  <Override PartName="/ppt/media/image6.wmf" ContentType="image/x-wmf"/>
  <Override PartName="/ppt/media/image23.wmf" ContentType="image/x-wmf"/>
  <Override PartName="/ppt/media/image24.wmf" ContentType="image/x-wmf"/>
  <Override PartName="/ppt/media/CASHREG.WAV" ContentType="audio/x-wav"/>
  <Override PartName="/ppt/media/image1.wmf" ContentType="image/x-wmf"/>
  <Override PartName="/ppt/media/CAMERA.WAV" ContentType="audio/x-wav"/>
  <Override PartName="/ppt/media/image5.wmf" ContentType="image/x-wmf"/>
  <Override PartName="/ppt/media/WHOOSH.WAV" ContentType="audio/x-wav"/>
  <Override PartName="/ppt/media/image16.wmf" ContentType="image/x-wmf"/>
  <Override PartName="/ppt/media/image2.wmf" ContentType="image/x-wmf"/>
  <Override PartName="/ppt/media/RICOCHET.WAV" ContentType="audio/x-wav"/>
  <Override PartName="/ppt/media/image3.wmf" ContentType="image/x-wmf"/>
  <Override PartName="/ppt/media/CHIMES.WAV" ContentType="audio/x-wav"/>
  <Override PartName="/ppt/media/boinng04.wav" ContentType="audio/x-wav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02F-F9BF-484A-88F1-6FE31BE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B85-EE39-4A60-A5F1-EBB542C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461-2D12-4303-8BC7-841DC346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426-E5DF-4CAA-ACC4-BFC0ADB2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73D-4749-446B-965F-DDF1990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C69-16F5-481C-AAAD-4631A50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EC1-05BE-422A-A5A1-69E2CA33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D79-B08A-404C-9457-826D070D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88E-BD3C-4C93-B204-C2255289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43-82C0-4C8F-B36F-5F3EB32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257-2A9B-4D13-A15F-8BEB1F0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FD2-BE83-4F01-A0DF-8E5162B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DB1-38A4-49FA-9EF4-7FD8B480E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audio" Target="../media/CASHREG.WAV"/><Relationship Id="rId6" Type="http://schemas.openxmlformats.org/officeDocument/2006/relationships/audio" Target="../media/WHOOSH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audio" Target="../media/WHOOSH.WAV"/><Relationship Id="rId10" Type="http://schemas.openxmlformats.org/officeDocument/2006/relationships/audio" Target="../media/PROJCTO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audio" Target="../media/PROJCTOR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RICOCHET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CAMERA.WAV"/><Relationship Id="rId28" Type="http://schemas.openxmlformats.org/officeDocument/2006/relationships/audio" Target="../media/boinng04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boinng04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boinng04.wav"/><Relationship Id="rId35" Type="http://schemas.openxmlformats.org/officeDocument/2006/relationships/audio" Target="../media/EXPLODE.WAV"/><Relationship Id="rId36" Type="http://schemas.openxmlformats.org/officeDocument/2006/relationships/audio" Target="../media/CAMERA.WAV"/><Relationship Id="rId37" Type="http://schemas.openxmlformats.org/officeDocument/2006/relationships/audio" Target="../media/boinng04.wav"/><Relationship Id="rId38" Type="http://schemas.openxmlformats.org/officeDocument/2006/relationships/audio" Target="../media/EXPLODE.WAV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audio" Target="../media/RICOCHET.WAV"/><Relationship Id="rId22" Type="http://schemas.openxmlformats.org/officeDocument/2006/relationships/audio" Target="../media/WHOOSH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boinng04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boinng04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boinng04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boinng04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audio" Target="../media/RICOCHET.WAV"/><Relationship Id="rId22" Type="http://schemas.openxmlformats.org/officeDocument/2006/relationships/audio" Target="../media/WHOOSH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boinng04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boinng04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boinng04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boinng04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caralarmon.wav"/><Relationship Id="rId25" Type="http://schemas.openxmlformats.org/officeDocument/2006/relationships/audio" Target="../media/caralarmon.wav"/><Relationship Id="rId26" Type="http://schemas.openxmlformats.org/officeDocument/2006/relationships/audio" Target="../media/caralarmoff.wav"/><Relationship Id="rId27" Type="http://schemas.openxmlformats.org/officeDocument/2006/relationships/audio" Target="../media/caralarmon.wav"/><Relationship Id="rId28" Type="http://schemas.openxmlformats.org/officeDocument/2006/relationships/audio" Target="../media/caralarmoff.wav"/><Relationship Id="rId29" Type="http://schemas.openxmlformats.org/officeDocument/2006/relationships/audio" Target="../media/caralarmon.wav"/><Relationship Id="rId30" Type="http://schemas.openxmlformats.org/officeDocument/2006/relationships/audio" Target="../media/caralarmoff.wav"/><Relationship Id="rId31" Type="http://schemas.openxmlformats.org/officeDocument/2006/relationships/audio" Target="../media/caralarmon.wav"/><Relationship Id="rId32" Type="http://schemas.openxmlformats.org/officeDocument/2006/relationships/audio" Target="../media/caralarmoff.wav"/><Relationship Id="rId33" Type="http://schemas.openxmlformats.org/officeDocument/2006/relationships/audio" Target="../media/peopleooo.wav"/><Relationship Id="rId34" Type="http://schemas.openxmlformats.org/officeDocument/2006/relationships/audio" Target="../media/peopleooo.wav"/><Relationship Id="rId35" Type="http://schemas.openxmlformats.org/officeDocument/2006/relationships/audio" Target="../media/peopleooo.wav"/><Relationship Id="rId36" Type="http://schemas.openxmlformats.org/officeDocument/2006/relationships/audio" Target="../media/peopleooo.wav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caralarmon.wav"/><Relationship Id="rId18" Type="http://schemas.openxmlformats.org/officeDocument/2006/relationships/audio" Target="../media/caralarmon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n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n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n.wav"/><Relationship Id="rId25" Type="http://schemas.openxmlformats.org/officeDocument/2006/relationships/audio" Target="../media/caralarmoff.wav"/><Relationship Id="rId26" Type="http://schemas.openxmlformats.org/officeDocument/2006/relationships/audio" Target="../media/peopleooo.wav"/><Relationship Id="rId27" Type="http://schemas.openxmlformats.org/officeDocument/2006/relationships/audio" Target="../media/peopleooo.wav"/><Relationship Id="rId28" Type="http://schemas.openxmlformats.org/officeDocument/2006/relationships/audio" Target="../media/peopleooo.wav"/><Relationship Id="rId29" Type="http://schemas.openxmlformats.org/officeDocument/2006/relationships/audio" Target="../media/peopleooo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9528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for each input there is only on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09480"/>
            <a:ext cx="9144000" cy="1404360"/>
            <a:chOff x="0" y="609480"/>
            <a:chExt cx="9144000" cy="1404360"/>
          </a:xfrm>
        </p:grpSpPr>
        <p:sp>
          <p:nvSpPr>
            <p:cNvPr id="4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es the table represent a function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106668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Functio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 rule that establishes a relationship between two quantities where each input has exactly one outpu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3520" y="2133720"/>
            <a:ext cx="3276360" cy="2670120"/>
            <a:chOff x="533520" y="2133720"/>
            <a:chExt cx="3276360" cy="2670120"/>
          </a:xfrm>
        </p:grpSpPr>
        <p:graphicFrame>
          <p:nvGraphicFramePr>
            <p:cNvPr id="48" name=""/>
            <p:cNvGraphicFramePr/>
            <p:nvPr/>
          </p:nvGraphicFramePr>
          <p:xfrm>
            <a:off x="1066680" y="2209680"/>
            <a:ext cx="2743200" cy="2594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209680"/>
                      <a:ext cx="2743200" cy="259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533520" y="21337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48320" y="4952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4952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for the input value of 2 there are two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00600" y="2133720"/>
            <a:ext cx="3276720" cy="2670120"/>
            <a:chOff x="4800600" y="2133720"/>
            <a:chExt cx="3276720" cy="2670120"/>
          </a:xfrm>
        </p:grpSpPr>
        <p:graphicFrame>
          <p:nvGraphicFramePr>
            <p:cNvPr id="54" name=""/>
            <p:cNvGraphicFramePr/>
            <p:nvPr/>
          </p:nvGraphicFramePr>
          <p:xfrm>
            <a:off x="5334120" y="2209680"/>
            <a:ext cx="2743200" cy="2594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209680"/>
                      <a:ext cx="2743200" cy="259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4800600" y="2133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48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n input-output table for the function.                           Use 0, 1, 2, and 3 as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67080" y="2057400"/>
          <a:ext cx="41148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41148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057400"/>
          <a:ext cx="291168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2911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648320" y="2895480"/>
            <a:ext cx="13716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2884320"/>
                <a:ext cx="26668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2743200" y="2895480"/>
          <a:ext cx="5144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771640" y="3657600"/>
          <a:ext cx="457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762280" y="4419720"/>
          <a:ext cx="5731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22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743200" y="5181480"/>
          <a:ext cx="5144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81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7086600" y="2895480"/>
          <a:ext cx="51588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2895480"/>
                    <a:ext cx="515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058160" y="3657600"/>
          <a:ext cx="57456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58160" y="3657600"/>
                    <a:ext cx="574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039080" y="4419720"/>
          <a:ext cx="51588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39080" y="4419720"/>
                    <a:ext cx="515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058160" y="5181480"/>
          <a:ext cx="57456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58160" y="5181480"/>
                    <a:ext cx="574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62120" y="3637080"/>
                <a:ext cx="26668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0320" y="4408560"/>
                <a:ext cx="26672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33320" y="5170320"/>
                <a:ext cx="26672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48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n input-output table for the function.                           Use 0, 1, 2, and 3 as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67080" y="2057400"/>
          <a:ext cx="41148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41148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5360" y="2057400"/>
          <a:ext cx="322272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2057400"/>
                    <a:ext cx="32227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648320" y="2895480"/>
            <a:ext cx="13716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54120" y="2851200"/>
                <a:ext cx="30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2209680" y="2895480"/>
          <a:ext cx="5144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895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209680" y="3657600"/>
          <a:ext cx="457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209680" y="4419720"/>
          <a:ext cx="5731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33720" y="5181480"/>
          <a:ext cx="51408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181480"/>
                    <a:ext cx="5140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908760" y="2895480"/>
          <a:ext cx="87156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8760" y="2895480"/>
                    <a:ext cx="871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86600" y="3657600"/>
          <a:ext cx="51588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6600" y="3657600"/>
                    <a:ext cx="515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010280" y="4419720"/>
          <a:ext cx="57312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942240" y="5181480"/>
          <a:ext cx="80784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42240" y="5181480"/>
                    <a:ext cx="8078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54120" y="3613320"/>
                <a:ext cx="30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39720" y="4402080"/>
                <a:ext cx="3033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5320" y="5151600"/>
                <a:ext cx="30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n input-output table for the function.                           Use 0, 1, 2, and 3 as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67080" y="2057400"/>
          <a:ext cx="41148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41148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58920" y="2057400"/>
          <a:ext cx="295596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920" y="2057400"/>
                    <a:ext cx="29559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648320" y="2895480"/>
            <a:ext cx="13716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38360" y="285588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2743200" y="2895480"/>
          <a:ext cx="5144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71640" y="3657600"/>
          <a:ext cx="457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762280" y="4419720"/>
          <a:ext cx="5731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22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743200" y="5181480"/>
          <a:ext cx="5144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81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058160" y="2895480"/>
          <a:ext cx="57456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58160" y="2895480"/>
                    <a:ext cx="574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16840" y="3657600"/>
          <a:ext cx="45720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1684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039080" y="4419720"/>
          <a:ext cx="51588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39080" y="4419720"/>
                    <a:ext cx="515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908760" y="5181480"/>
          <a:ext cx="87300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08760" y="5181480"/>
                    <a:ext cx="873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23960" y="360360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38360" y="440856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09560" y="514044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6. The county fair charges $1.50 per vehicle and $4 for each person in the vehicle. Represent the total charge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as a function of the number of persons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. Write an equation for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43200" y="3352680"/>
          <a:ext cx="6015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52680"/>
                    <a:ext cx="601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981080" y="5962680"/>
          <a:ext cx="6890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962680"/>
                    <a:ext cx="689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3048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048120"/>
            <a:ext cx="13716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048120"/>
            <a:ext cx="15238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ehicl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00600" y="3297240"/>
          <a:ext cx="5335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297240"/>
                    <a:ext cx="533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257800" y="304812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ate p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114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572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ehicl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1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029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ate p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86160" y="5962680"/>
          <a:ext cx="17906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6160" y="5962680"/>
                    <a:ext cx="1790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191120" y="5945040"/>
          <a:ext cx="97632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5945040"/>
                    <a:ext cx="976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876920" y="6114960"/>
          <a:ext cx="636480" cy="7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6114960"/>
                    <a:ext cx="636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985080" y="3352680"/>
          <a:ext cx="38556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85080" y="3352680"/>
                    <a:ext cx="385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315200" y="3124080"/>
            <a:ext cx="1828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umber of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548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 of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7. The county fair charges $3 per vehicle and $2.50 for each person in the vehicle. Represent the total charge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as a function of the number of persons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. Write an equation for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81080" y="5962680"/>
          <a:ext cx="689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962680"/>
                    <a:ext cx="689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114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572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ehicl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5029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ate p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833560" y="5962680"/>
          <a:ext cx="1095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3560" y="5962680"/>
                    <a:ext cx="10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33920" y="5943600"/>
          <a:ext cx="13809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5943600"/>
                    <a:ext cx="1380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876920" y="6114960"/>
          <a:ext cx="636480" cy="7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6114960"/>
                    <a:ext cx="636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3048120"/>
            <a:ext cx="9144000" cy="1068840"/>
            <a:chOff x="0" y="3048120"/>
            <a:chExt cx="9144000" cy="1068840"/>
          </a:xfrm>
        </p:grpSpPr>
        <p:graphicFrame>
          <p:nvGraphicFramePr>
            <p:cNvPr id="192" name=""/>
            <p:cNvGraphicFramePr/>
            <p:nvPr/>
          </p:nvGraphicFramePr>
          <p:xfrm>
            <a:off x="2743200" y="3352680"/>
            <a:ext cx="601560" cy="484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43200" y="3352680"/>
                      <a:ext cx="60156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0" y="304812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71600" y="3048120"/>
              <a:ext cx="137160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otal char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3048120"/>
              <a:ext cx="152388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Vehicle char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4800600" y="3297240"/>
            <a:ext cx="533520" cy="531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00600" y="3297240"/>
                      <a:ext cx="53352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5257800" y="3048120"/>
              <a:ext cx="175248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Rate per pers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6985080" y="3352680"/>
            <a:ext cx="385560" cy="428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85080" y="3352680"/>
                      <a:ext cx="38556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7315200" y="3124080"/>
              <a:ext cx="182880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Number of pers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523880" y="548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 of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17T14:29:44Z</dcterms:modified>
  <cp:revision>33</cp:revision>
  <dc:subject/>
  <dc:title>No Slide Title</dc:title>
</cp:coreProperties>
</file>